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A4B25-3516-47A5-AF0A-EBC236411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11CB3-D21D-455F-9FE5-4880D511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101AA-BD77-4902-BD1E-F3DBB1201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5F72A-66B5-4DF2-A5FB-541C9D82F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CE91-5C4B-41AC-B7B4-CCF20D355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1489-6CE9-42B8-8CD0-C79880D2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D2D7-0FF9-4CF2-9857-6D6B5BEBA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CCFB-7DEE-4742-8370-9164973E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54EE-122A-4558-9576-D838F7AA7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265E-FBF2-4F11-871E-206BEC1C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1D10-1D2A-4EBB-A9C2-2BE4C6738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E5EF-3E85-43D5-ADB7-EC353BC8D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807C-E506-4506-A651-1E8F063F2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xtremetech.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8195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Build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weak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Use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Know it</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Love it</a:t>
            </a:r>
            <a:endParaRPr b="0" lang="en-US" sz="3600" spc="-1" strike="noStrike">
              <a:solidFill>
                <a:srgbClr val="000000"/>
              </a:solidFill>
              <a:latin typeface="Times New Roman"/>
            </a:endParaRPr>
          </a:p>
        </p:txBody>
      </p:sp>
      <p:pic>
        <p:nvPicPr>
          <p:cNvPr id="42" name="header" descr="ExtremeTech">
            <a:hlinkClick r:id="rId1"/>
          </p:cNvPr>
          <p:cNvPicPr/>
          <p:nvPr/>
        </p:nvPicPr>
        <p:blipFill>
          <a:blip r:embed="rId2"/>
          <a:stretch/>
        </p:blipFill>
        <p:spPr>
          <a:xfrm>
            <a:off x="0" y="0"/>
            <a:ext cx="6553080" cy="1047600"/>
          </a:xfrm>
          <a:prstGeom prst="rect">
            <a:avLst/>
          </a:prstGeom>
          <a:ln w="0">
            <a:noFill/>
          </a:ln>
        </p:spPr>
      </p:pic>
      <p:sp>
        <p:nvSpPr>
          <p:cNvPr id="43" name=""/>
          <p:cNvSpPr txBox="1"/>
          <p:nvPr/>
        </p:nvSpPr>
        <p:spPr>
          <a:xfrm>
            <a:off x="1905120" y="1295280"/>
            <a:ext cx="51814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9d5b"/>
                </a:solidFill>
                <a:latin typeface="Tahoma"/>
              </a:rPr>
              <a:t>Wiki</a:t>
            </a:r>
            <a:endParaRPr b="1" lang="en-US" sz="2400" spc="1" strike="noStrike">
              <a:ln w="9360">
                <a:solidFill>
                  <a:srgbClr val="000000"/>
                </a:solidFill>
                <a:miter/>
              </a:ln>
              <a:solidFill>
                <a:srgbClr val="ff9d5b"/>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666666"/>
                </a:solidFill>
                <a:latin typeface="Verdana"/>
                <a:ea typeface="Times New Roman"/>
              </a:rPr>
              <a:t>   </a:t>
            </a:r>
            <a:r>
              <a:rPr b="1" lang="en" sz="3200" spc="-1" strike="noStrike">
                <a:solidFill>
                  <a:srgbClr val="666666"/>
                </a:solidFill>
                <a:latin typeface="Verdana"/>
                <a:ea typeface="Times New Roman"/>
              </a:rPr>
              <a:t>you can organize your page however you want:  You can organize using “categories”, tables, horizontal bars, etc.</a:t>
            </a:r>
            <a:r>
              <a:rPr b="0" lang="en"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   </a:t>
            </a:r>
            <a:r>
              <a:rPr b="1" lang="en" sz="3200" spc="-1" strike="noStrike">
                <a:solidFill>
                  <a:srgbClr val="000000"/>
                </a:solidFill>
                <a:latin typeface="Verdana"/>
                <a:ea typeface="Times New Roman"/>
              </a:rPr>
              <a:t>Traditionally, whomever happens to be reading the wiki could click the Edit button and change the Website.</a:t>
            </a:r>
            <a:r>
              <a:rPr b="1" lang="en-US" sz="3200" spc="-1" strike="noStrike">
                <a:solidFill>
                  <a:srgbClr val="000000"/>
                </a:solidFill>
                <a:latin typeface="Verdana"/>
                <a:ea typeface="Times New Roman"/>
              </a:rPr>
              <a:t> </a:t>
            </a:r>
            <a:r>
              <a:rPr b="1" lang="en" sz="3200" spc="-1" strike="noStrike">
                <a:solidFill>
                  <a:srgbClr val="000000"/>
                </a:solidFill>
                <a:latin typeface="Verdana"/>
                <a:ea typeface="Times New Roman"/>
              </a:rPr>
              <a:t>While this may seem odd, many wikis are able to do this successfully without major issues in terms of vandalism.</a:t>
            </a:r>
            <a:r>
              <a:rPr b="0" lang="en"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ea typeface="Times New Roman"/>
              </a:rPr>
              <a:t>This is because the wiki stores the history of each page. For each vandal, there are probably ten people who actually need the information that was there before, and who will take the time to click the button and reset the page to its former contents.</a:t>
            </a:r>
            <a:r>
              <a:rPr b="0" lang="en" sz="3600" spc="-1" strike="noStrike">
                <a:solidFill>
                  <a:srgbClr val="666666"/>
                </a:solidFill>
                <a:latin typeface="Verdana"/>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r Wiki Si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ea typeface="Times New Roman"/>
              </a:rPr>
              <a:t>Is restricted:  only a given set of usernames are allowed to edi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ea typeface="Times New Roman"/>
              </a:rPr>
              <a:t>I know the identity of those userna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Now that you know how a wiki works, I will treat profanity on the wiki the same as if it was spoken aloud in class.</a:t>
            </a:r>
            <a:r>
              <a:rPr b="0" lang="en-US" sz="3200" spc="-1" strike="noStrike">
                <a:solidFill>
                  <a:srgbClr val="666666"/>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144756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Wikis are becoming known as the tool of choice for large, multiple-participant projects.</a:t>
            </a:r>
            <a:r>
              <a:rPr b="0" lang="en-US" sz="3200" spc="-1" strike="noStrike">
                <a:solidFill>
                  <a:srgbClr val="222222"/>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Use a wiki to keep notes and share ideas among a group of student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rganize your group’s wiki page so it is easy for group members to add “thoughts” or ideas and to encourage crea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839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Verdana"/>
              </a:rPr>
              <a:t>The REAL Challenge of a Good Wik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1371600"/>
            <a:ext cx="861048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e all can appreciate a joke and humor.</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But when it comes to vandalism and profanity or inappropriate material, the GREAT thing about a wiki is that this material can be immediately removed so that … to make your Changes </a:t>
            </a:r>
            <a:r>
              <a:rPr b="1" lang="en-US" sz="3200" spc="-1" strike="noStrike">
                <a:solidFill>
                  <a:srgbClr val="ff3399"/>
                </a:solidFill>
                <a:latin typeface="Arial"/>
                <a:ea typeface="Arial"/>
              </a:rPr>
              <a:t>REALLY</a:t>
            </a:r>
            <a:r>
              <a:rPr b="1" lang="en-US" sz="3200" spc="-1" strike="noStrike">
                <a:solidFill>
                  <a:srgbClr val="ffffff"/>
                </a:solidFill>
                <a:latin typeface="Arial"/>
                <a:ea typeface="Arial"/>
              </a:rPr>
              <a:t> mean something…it is like  a survival-of-the-fittest: "You need to generate real content . . . Otherwise anything else will be removed. So anyone can play, but </a:t>
            </a:r>
            <a:r>
              <a:rPr b="1" lang="en-US" sz="3200" spc="-1" strike="noStrike">
                <a:solidFill>
                  <a:srgbClr val="ff3399"/>
                </a:solidFill>
                <a:latin typeface="Arial"/>
                <a:ea typeface="Arial"/>
              </a:rPr>
              <a:t>only good players last</a:t>
            </a:r>
            <a:r>
              <a:rPr b="1" lang="en-US" sz="3200" spc="-1" strike="noStrike">
                <a:solidFill>
                  <a:srgbClr val="ffffff"/>
                </a:solidFill>
                <a:latin typeface="Arial"/>
                <a:ea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533160"/>
            <a:ext cx="8077320" cy="6019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Blogs and wikis are opposites in many ways... A blog tends to reflect the biases and opinions of </a:t>
            </a:r>
            <a:r>
              <a:rPr b="1" lang="en-US" sz="3200" spc="-1" strike="noStrike" u="sng">
                <a:solidFill>
                  <a:srgbClr val="000000"/>
                </a:solidFill>
                <a:uFillTx/>
                <a:latin typeface="Arial"/>
                <a:ea typeface="Times New Roman"/>
              </a:rPr>
              <a:t>an author</a:t>
            </a:r>
            <a:r>
              <a:rPr b="1" lang="en-US" sz="3200" spc="-1" strike="noStrike">
                <a:solidFill>
                  <a:srgbClr val="000000"/>
                </a:solidFill>
                <a:latin typeface="Arial"/>
                <a:ea typeface="Times New Roman"/>
              </a:rPr>
              <a:t>, while a wiki is more like an open conversation among friends. In a wiki you try to speak without a strong voice, seeking approval to create something permanent that won’t be deleted by the group, while on a blog you're developing your own voice and it's very much about just “you.” (Usually – that is not very interes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2222"/>
                </a:solidFill>
                <a:latin typeface="Tahoma"/>
                <a:ea typeface="Times New Roman"/>
              </a:rPr>
              <a:t>What if someone erases large parts of the site?</a:t>
            </a:r>
            <a:r>
              <a:rPr b="0" lang="en-US" sz="4400" spc="-1" strike="noStrike">
                <a:solidFill>
                  <a:srgbClr val="222222"/>
                </a:solidFill>
                <a:latin typeface="Times New Roman"/>
                <a:ea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761760" y="1676160"/>
            <a:ext cx="83818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Revision control: Easy to revert back to a previous good vers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If it is done intentionally, the editor can be tracked by their userna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Only certain usernames are allowed access to our wik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2222"/>
                </a:solidFill>
                <a:latin typeface="Tahoma"/>
                <a:ea typeface="Times New Roman"/>
              </a:rPr>
              <a:t>What if someone erases large parts of the site?</a:t>
            </a:r>
            <a:r>
              <a:rPr b="0" lang="en-US" sz="4400" spc="-1" strike="noStrike">
                <a:solidFill>
                  <a:srgbClr val="222222"/>
                </a:solidFill>
                <a:latin typeface="Times New Roman"/>
                <a:ea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76160"/>
            <a:ext cx="868680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The purpose of the wiki is to WORK TOGETHER to get a good grade on this project.  Most students want a good grade and would prefer to use a computer rather than writing a 10 page report.</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However, I can accommodate anyone who would rather do this project as a written 10 page re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7524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800" spc="-1" strike="noStrike">
                <a:solidFill>
                  <a:srgbClr val="ffffff"/>
                </a:solidFill>
                <a:latin typeface="Verdana"/>
                <a:ea typeface="Times New Roman"/>
              </a:rPr>
              <a:t>A tool to collaborate on projec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990360" y="2133720"/>
            <a:ext cx="746748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at does Collaborate mean?</a:t>
            </a: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o work togeth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ules</a:t>
            </a:r>
            <a:endParaRPr b="0" lang="en-US" sz="4400" spc="-1" strike="noStrike">
              <a:solidFill>
                <a:srgbClr val="000000"/>
              </a:solidFill>
              <a:latin typeface="Times New Roman"/>
            </a:endParaRPr>
          </a:p>
        </p:txBody>
      </p:sp>
      <p:sp>
        <p:nvSpPr>
          <p:cNvPr id="75"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No obscene language</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Do not use the wiki space for anything other than creating the project about firearms, planning for the project and necessary information between group members.</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Be polite and courteous</a:t>
            </a:r>
            <a:endParaRPr b="0" lang="en-US" sz="3200" spc="-1" strike="noStrike">
              <a:solidFill>
                <a:srgbClr val="000000"/>
              </a:solidFill>
              <a:latin typeface="Times New Roman"/>
            </a:endParaRPr>
          </a:p>
          <a:p>
            <a:pPr marL="343080" indent="-343080">
              <a:lnSpc>
                <a:spcPct val="100000"/>
              </a:lnSpc>
              <a:spcBef>
                <a:spcPts val="799"/>
              </a:spcBef>
              <a:buClr>
                <a:srgbClr val="22222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22"/>
                </a:solidFill>
                <a:latin typeface="Tahoma"/>
                <a:ea typeface="Times New Roman"/>
              </a:rPr>
              <a:t>Do not delete an entire wiki page or sections of the wiki that does not require dele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75248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A Wiki is . . .</a:t>
            </a:r>
            <a:endParaRPr b="0" lang="en-US" sz="48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800" spc="-1" strike="noStrike">
                <a:solidFill>
                  <a:srgbClr val="000000"/>
                </a:solidFill>
                <a:latin typeface="Verdana"/>
                <a:ea typeface="Times New Roman"/>
              </a:rPr>
              <a:t>An open, collaborative Website where </a:t>
            </a:r>
            <a:r>
              <a:rPr b="0" lang="en" sz="4800" spc="-1" strike="noStrike" u="sng">
                <a:solidFill>
                  <a:srgbClr val="000000"/>
                </a:solidFill>
                <a:uFillTx/>
                <a:latin typeface="Verdana"/>
                <a:ea typeface="Times New Roman"/>
              </a:rPr>
              <a:t>anyone can contribute</a:t>
            </a:r>
            <a:r>
              <a:rPr b="0" lang="en-US" sz="4800" spc="-1" strike="noStrike" u="sng">
                <a:solidFill>
                  <a:srgbClr val="000000"/>
                </a:solidFill>
                <a:uFillTx/>
                <a:latin typeface="Times New Roman"/>
              </a:rPr>
              <a:t> </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360" y="1599840"/>
            <a:ext cx="7543800" cy="47242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ea typeface="Times New Roman"/>
              </a:rPr>
              <a:t>Each page on a wiki has an </a:t>
            </a:r>
            <a:r>
              <a:rPr b="1" lang="en" sz="3600" spc="-1" strike="noStrike">
                <a:solidFill>
                  <a:srgbClr val="ff0000"/>
                </a:solidFill>
                <a:latin typeface="Verdana"/>
                <a:ea typeface="Times New Roman"/>
              </a:rPr>
              <a:t>Edit</a:t>
            </a:r>
            <a:r>
              <a:rPr b="1" lang="en" sz="3600" spc="-1" strike="noStrike">
                <a:solidFill>
                  <a:srgbClr val="000000"/>
                </a:solidFill>
                <a:latin typeface="Verdana"/>
                <a:ea typeface="Times New Roman"/>
              </a:rPr>
              <a:t> button. If you want to change something on the page, click the button, and the wiki will display a </a:t>
            </a:r>
            <a:r>
              <a:rPr b="1" lang="en" sz="3600" spc="-1" strike="noStrike" u="sng">
                <a:solidFill>
                  <a:srgbClr val="000000"/>
                </a:solidFill>
                <a:uFillTx/>
                <a:latin typeface="Verdana"/>
                <a:ea typeface="Times New Roman"/>
              </a:rPr>
              <a:t>simple editing screen</a:t>
            </a:r>
            <a:r>
              <a:rPr b="1" lang="en" sz="3600" spc="-1" strike="noStrike">
                <a:solidFill>
                  <a:srgbClr val="000000"/>
                </a:solidFill>
                <a:latin typeface="Verdana"/>
                <a:ea typeface="Times New Roman"/>
              </a:rPr>
              <a:t>. </a:t>
            </a:r>
            <a:endParaRPr b="0" lang="en-US" sz="3600" spc="-1" strike="noStrike">
              <a:solidFill>
                <a:srgbClr val="000000"/>
              </a:solidFill>
              <a:latin typeface="Times New Roman"/>
            </a:endParaRPr>
          </a:p>
        </p:txBody>
      </p:sp>
      <p:sp>
        <p:nvSpPr>
          <p:cNvPr id="49"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90360" y="1599840"/>
            <a:ext cx="75438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The editing is done as WYSIWYG. What does this me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When you finish making changes, submit them by clicking a “save”button, and, Your changes show up on the Website </a:t>
            </a:r>
            <a:r>
              <a:rPr b="1" lang="en" sz="3200" spc="-1" strike="noStrike" u="sng">
                <a:solidFill>
                  <a:srgbClr val="000000"/>
                </a:solidFill>
                <a:uFillTx/>
                <a:latin typeface="Verdana"/>
                <a:ea typeface="Times New Roman"/>
              </a:rPr>
              <a:t>instantly</a:t>
            </a:r>
            <a:r>
              <a:rPr b="1" lang="en" sz="3200" spc="-1" strike="noStrike">
                <a:solidFill>
                  <a:srgbClr val="000000"/>
                </a:solidFill>
                <a:latin typeface="Verdana"/>
                <a:ea typeface="Times New Roman"/>
              </a:rPr>
              <a:t>.</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2120" y="2666880"/>
            <a:ext cx="7772400" cy="4191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   </a:t>
            </a:r>
            <a:r>
              <a:rPr b="1" lang="en" sz="3600" spc="-1" strike="noStrike">
                <a:solidFill>
                  <a:srgbClr val="000000"/>
                </a:solidFill>
                <a:latin typeface="Verdana"/>
                <a:ea typeface="Times New Roman"/>
              </a:rPr>
              <a:t>You do not need to know html or how to write code…the wiki does it for you.</a:t>
            </a:r>
            <a:endParaRPr b="0" lang="en-US" sz="3600" spc="-1" strike="noStrike">
              <a:solidFill>
                <a:srgbClr val="000000"/>
              </a:solidFill>
              <a:latin typeface="Times New Roman"/>
            </a:endParaRPr>
          </a:p>
        </p:txBody>
      </p:sp>
      <p:sp>
        <p:nvSpPr>
          <p:cNvPr id="53"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Simple to Edit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Verdana"/>
                <a:ea typeface="Times New Roman"/>
              </a:rPr>
              <a:t>If you make a mistake, don't worry. Plenty of old copies of your pages are saved in the “history” tab and you can revert to an older version of a page </a:t>
            </a:r>
            <a:r>
              <a:rPr b="1" lang="en" sz="3200" spc="-1" strike="noStrike" u="sng">
                <a:solidFill>
                  <a:srgbClr val="000000"/>
                </a:solidFill>
                <a:uFillTx/>
                <a:latin typeface="Verdana"/>
                <a:ea typeface="Times New Roman"/>
              </a:rPr>
              <a:t>VERY EASILY</a:t>
            </a:r>
            <a:r>
              <a:rPr b="1" lang="en" sz="3200" spc="-1" strike="noStrike">
                <a:solidFill>
                  <a:srgbClr val="000000"/>
                </a:solidFill>
                <a:latin typeface="Verdana"/>
                <a:ea typeface="Times New Roman"/>
              </a:rPr>
              <a:t>.</a:t>
            </a: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Wikis record document histories . .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1752120"/>
            <a:ext cx="8610480" cy="495324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Wikis store all your Website's content in an internal hypertext database. The wiki knows about every page you have and about every link you make. You can upload files and pictures both.</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Creating Links is Simp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920" y="1752120"/>
            <a:ext cx="8610480" cy="495324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666666"/>
                </a:solidFill>
                <a:latin typeface="Verdana"/>
                <a:ea typeface="Times New Roman"/>
              </a:rPr>
              <a:t>You don't have to worry about the location of files or the format of your tags. Simply name the page, and the wiki will automatically create a link for you.  The wiki will list all the files you have uploaded.</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0" y="0"/>
            <a:ext cx="9144000" cy="1447920"/>
          </a:xfrm>
          <a:prstGeom prst="rect">
            <a:avLst/>
          </a:prstGeom>
          <a:solidFill>
            <a:srgbClr val="008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Creating Links is Simp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0:23:20Z</dcterms:created>
  <dc:creator>SAM</dc:creator>
  <dc:description/>
  <dc:language>en-US</dc:language>
  <cp:lastModifiedBy>Rhonda Miller</cp:lastModifiedBy>
  <dcterms:modified xsi:type="dcterms:W3CDTF">2007-01-10T21:56:26Z</dcterms:modified>
  <cp:revision>15</cp:revision>
  <dc:subject/>
  <dc:title>Wiki</dc:title>
</cp:coreProperties>
</file>